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HIMES.WAV" ContentType="audio/x-wav"/>
  <Override PartName="/ppt/media/highchime.wav" ContentType="audio/x-wav"/>
  <Override PartName="/ppt/media/zapbig0g.wav" ContentType="audio/x-wav"/>
  <Override PartName="/ppt/media/telephone.wav" ContentType="audio/x-wav"/>
  <Override PartName="/ppt/media/explode.wav" ContentType="audio/x-wav"/>
  <Override PartName="/ppt/media/driveby.wav" ContentType="audio/x-wav"/>
  <Override PartName="/ppt/media/bserie06.wav" ContentType="audio/x-wav"/>
  <Override PartName="/ppt/media/boinng04.wav" ContentType="audio/x-wav"/>
  <Override PartName="/ppt/media/carbrake.wav" ContentType="audio/x-wav"/>
  <Override PartName="/ppt/media/zipup202.wav" ContentType="audio/x-wav"/>
  <Override PartName="/ppt/media/children%20yeah.wav" ContentType="audio/x-wav"/>
  <Override PartName="/ppt/media/zipby1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0CD-B85C-482E-AE86-11E3A19E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175-5840-47A8-B940-B83ED20C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88B-3FCE-4313-8517-762A6D41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4D7-1C6C-4EBB-82EE-1BADC43B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72A-0F9A-47C2-8681-46597653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2DA-5144-4639-A943-D4ACAF20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D55-B9EC-4983-9367-4A22510F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81A-610E-40BC-A967-5489B6EA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45D-06C7-4FEA-9B53-C48B977A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71E-8EE9-4964-98A0-D0979B7D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F59-C3F6-4CBA-B850-696B2E42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0E7-0755-4F40-9F64-016F77C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1BC8-F656-4F10-BE35-088DCC92D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telephone.wav"/><Relationship Id="rId6" Type="http://schemas.openxmlformats.org/officeDocument/2006/relationships/audio" Target="../media/driveby.wav"/><Relationship Id="rId7" Type="http://schemas.openxmlformats.org/officeDocument/2006/relationships/audio" Target="../media/bserie06.wav"/><Relationship Id="rId8" Type="http://schemas.openxmlformats.org/officeDocument/2006/relationships/audio" Target="../media/driveby.wav"/><Relationship Id="rId9" Type="http://schemas.openxmlformats.org/officeDocument/2006/relationships/audio" Target="../media/bserie06.wav"/><Relationship Id="rId10" Type="http://schemas.openxmlformats.org/officeDocument/2006/relationships/audio" Target="../media/driveby.wav"/><Relationship Id="rId11" Type="http://schemas.openxmlformats.org/officeDocument/2006/relationships/audio" Target="../media/bserie06.wav"/><Relationship Id="rId12" Type="http://schemas.openxmlformats.org/officeDocument/2006/relationships/audio" Target="../media/driveby.wav"/><Relationship Id="rId13" Type="http://schemas.openxmlformats.org/officeDocument/2006/relationships/audio" Target="../media/bserie06.wav"/><Relationship Id="rId14" Type="http://schemas.openxmlformats.org/officeDocument/2006/relationships/audio" Target="../media/boinng04.wav"/><Relationship Id="rId15" Type="http://schemas.openxmlformats.org/officeDocument/2006/relationships/audio" Target="../media/carbrake.wav"/><Relationship Id="rId16" Type="http://schemas.openxmlformats.org/officeDocument/2006/relationships/audio" Target="../media/explode.wav"/><Relationship Id="rId17" Type="http://schemas.openxmlformats.org/officeDocument/2006/relationships/audio" Target="../media/telephone.wav"/><Relationship Id="rId18" Type="http://schemas.openxmlformats.org/officeDocument/2006/relationships/audio" Target="../media/zipup202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driveby.wav"/><Relationship Id="rId22" Type="http://schemas.openxmlformats.org/officeDocument/2006/relationships/audio" Target="../media/zipup202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zipby102.wav"/><Relationship Id="rId27" Type="http://schemas.openxmlformats.org/officeDocument/2006/relationships/audio" Target="../media/driveby.wav"/><Relationship Id="rId28" Type="http://schemas.openxmlformats.org/officeDocument/2006/relationships/audio" Target="../media/driveby.wav"/><Relationship Id="rId29" Type="http://schemas.openxmlformats.org/officeDocument/2006/relationships/audio" Target="../media/driveby.wav"/><Relationship Id="rId30" Type="http://schemas.openxmlformats.org/officeDocument/2006/relationships/audio" Target="../media/driveby.wav"/><Relationship Id="rId31" Type="http://schemas.openxmlformats.org/officeDocument/2006/relationships/audio" Target="../media/driveby.wav"/><Relationship Id="rId32" Type="http://schemas.openxmlformats.org/officeDocument/2006/relationships/audio" Target="../media/zipby102.wav"/><Relationship Id="rId33" Type="http://schemas.openxmlformats.org/officeDocument/2006/relationships/audio" Target="../media/driveby.wav"/><Relationship Id="rId34" Type="http://schemas.openxmlformats.org/officeDocument/2006/relationships/audio" Target="../media/driveby.wav"/><Relationship Id="rId35" Type="http://schemas.openxmlformats.org/officeDocument/2006/relationships/audio" Target="../media/children%20yeah.wav"/><Relationship Id="rId36" Type="http://schemas.openxmlformats.org/officeDocument/2006/relationships/audio" Target="../media/children%20yeah.wav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up202.wav"/><Relationship Id="rId3" Type="http://schemas.openxmlformats.org/officeDocument/2006/relationships/audio" Target="../media/zipby102.wav"/><Relationship Id="rId4" Type="http://schemas.openxmlformats.org/officeDocument/2006/relationships/audio" Target="../media/zipby102.wav"/><Relationship Id="rId5" Type="http://schemas.openxmlformats.org/officeDocument/2006/relationships/audio" Target="../media/driveby.wav"/><Relationship Id="rId6" Type="http://schemas.openxmlformats.org/officeDocument/2006/relationships/audio" Target="../media/zipup202.wav"/><Relationship Id="rId7" Type="http://schemas.openxmlformats.org/officeDocument/2006/relationships/audio" Target="../media/zipby102.wav"/><Relationship Id="rId8" Type="http://schemas.openxmlformats.org/officeDocument/2006/relationships/audio" Target="../media/zipby102.wav"/><Relationship Id="rId9" Type="http://schemas.openxmlformats.org/officeDocument/2006/relationships/audio" Target="../media/driveby.wav"/><Relationship Id="rId10" Type="http://schemas.openxmlformats.org/officeDocument/2006/relationships/audio" Target="../media/zipup202.wav"/><Relationship Id="rId11" Type="http://schemas.openxmlformats.org/officeDocument/2006/relationships/audio" Target="../media/zipby102.wav"/><Relationship Id="rId12" Type="http://schemas.openxmlformats.org/officeDocument/2006/relationships/audio" Target="../media/zipby102.wav"/><Relationship Id="rId13" Type="http://schemas.openxmlformats.org/officeDocument/2006/relationships/audio" Target="../media/zipby102.wav"/><Relationship Id="rId14" Type="http://schemas.openxmlformats.org/officeDocument/2006/relationships/audio" Target="../media/zipby102.wav"/><Relationship Id="rId15" Type="http://schemas.openxmlformats.org/officeDocument/2006/relationships/audio" Target="../media/driveby.wav"/><Relationship Id="rId16" Type="http://schemas.openxmlformats.org/officeDocument/2006/relationships/audio" Target="../media/driveby.wav"/><Relationship Id="rId17" Type="http://schemas.openxmlformats.org/officeDocument/2006/relationships/audio" Target="../media/driveby.wav"/><Relationship Id="rId18" Type="http://schemas.openxmlformats.org/officeDocument/2006/relationships/audio" Target="../media/zipby102.wav"/><Relationship Id="rId19" Type="http://schemas.openxmlformats.org/officeDocument/2006/relationships/audio" Target="../media/driveby.wav"/><Relationship Id="rId20" Type="http://schemas.openxmlformats.org/officeDocument/2006/relationships/audio" Target="../media/driveby.wav"/><Relationship Id="rId21" Type="http://schemas.openxmlformats.org/officeDocument/2006/relationships/audio" Target="../media/driveby.wav"/><Relationship Id="rId22" Type="http://schemas.openxmlformats.org/officeDocument/2006/relationships/audio" Target="../media/driveby.wav"/><Relationship Id="rId23" Type="http://schemas.openxmlformats.org/officeDocument/2006/relationships/audio" Target="../media/children%20yeah.wav"/><Relationship Id="rId24" Type="http://schemas.openxmlformats.org/officeDocument/2006/relationships/audio" Target="../media/children%20yeah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highchime.wav"/><Relationship Id="rId3" Type="http://schemas.openxmlformats.org/officeDocument/2006/relationships/audio" Target="../media/zapbig0g.wav"/><Relationship Id="rId4" Type="http://schemas.openxmlformats.org/officeDocument/2006/relationships/audio" Target="../media/telephone.wav"/><Relationship Id="rId5" Type="http://schemas.openxmlformats.org/officeDocument/2006/relationships/audio" Target="../media/telephone.wav"/><Relationship Id="rId6" Type="http://schemas.openxmlformats.org/officeDocument/2006/relationships/audio" Target="../media/driveby.wav"/><Relationship Id="rId7" Type="http://schemas.openxmlformats.org/officeDocument/2006/relationships/audio" Target="../media/bserie06.wav"/><Relationship Id="rId8" Type="http://schemas.openxmlformats.org/officeDocument/2006/relationships/audio" Target="../media/driveby.wav"/><Relationship Id="rId9" Type="http://schemas.openxmlformats.org/officeDocument/2006/relationships/audio" Target="../media/bserie06.wav"/><Relationship Id="rId10" Type="http://schemas.openxmlformats.org/officeDocument/2006/relationships/audio" Target="../media/driveby.wav"/><Relationship Id="rId11" Type="http://schemas.openxmlformats.org/officeDocument/2006/relationships/audio" Target="../media/bserie06.wav"/><Relationship Id="rId12" Type="http://schemas.openxmlformats.org/officeDocument/2006/relationships/audio" Target="../media/driveby.wav"/><Relationship Id="rId13" Type="http://schemas.openxmlformats.org/officeDocument/2006/relationships/audio" Target="../media/bserie06.wav"/><Relationship Id="rId14" Type="http://schemas.openxmlformats.org/officeDocument/2006/relationships/audio" Target="../media/boinng04.wav"/><Relationship Id="rId15" Type="http://schemas.openxmlformats.org/officeDocument/2006/relationships/audio" Target="../media/carbrake.wav"/><Relationship Id="rId16" Type="http://schemas.openxmlformats.org/officeDocument/2006/relationships/audio" Target="../media/telephone.wav"/><Relationship Id="rId17" Type="http://schemas.openxmlformats.org/officeDocument/2006/relationships/audio" Target="../media/telephone.wav"/><Relationship Id="rId18" Type="http://schemas.openxmlformats.org/officeDocument/2006/relationships/audio" Target="../media/zipup202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driveby.wav"/><Relationship Id="rId22" Type="http://schemas.openxmlformats.org/officeDocument/2006/relationships/audio" Target="../media/driveby.wav"/><Relationship Id="rId23" Type="http://schemas.openxmlformats.org/officeDocument/2006/relationships/audio" Target="../media/driveby.wav"/><Relationship Id="rId24" Type="http://schemas.openxmlformats.org/officeDocument/2006/relationships/audio" Target="../media/children%20yeah.wav"/><Relationship Id="rId25" Type="http://schemas.openxmlformats.org/officeDocument/2006/relationships/audio" Target="../media/children%20yeah.wav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telephone.wav"/><Relationship Id="rId3" Type="http://schemas.openxmlformats.org/officeDocument/2006/relationships/audio" Target="../media/zipup202.wav"/><Relationship Id="rId4" Type="http://schemas.openxmlformats.org/officeDocument/2006/relationships/audio" Target="../media/zipby102.wav"/><Relationship Id="rId5" Type="http://schemas.openxmlformats.org/officeDocument/2006/relationships/audio" Target="../media/zipby102.wav"/><Relationship Id="rId6" Type="http://schemas.openxmlformats.org/officeDocument/2006/relationships/audio" Target="../media/zipby102.wav"/><Relationship Id="rId7" Type="http://schemas.openxmlformats.org/officeDocument/2006/relationships/audio" Target="../media/zipby102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audio" Target="../media/driveby.wav"/><Relationship Id="rId11" Type="http://schemas.openxmlformats.org/officeDocument/2006/relationships/audio" Target="../media/children%20yeah.wav"/><Relationship Id="rId12" Type="http://schemas.openxmlformats.org/officeDocument/2006/relationships/audio" Target="../media/children%20yeah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4280" y="4057560"/>
                <a:ext cx="51292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304920" y="1204920"/>
            <a:ext cx="8534160" cy="19033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ltiplying Rationa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0844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936960" y="4302000"/>
            <a:ext cx="1465200" cy="2923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14800" y="4970520"/>
            <a:ext cx="404640" cy="4111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610080" y="3535200"/>
                <a:ext cx="198432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127400" y="3710160"/>
                <a:ext cx="478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537080" y="3562200"/>
                <a:ext cx="8604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397480" y="3971880"/>
                <a:ext cx="298764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151680" y="4924440"/>
                <a:ext cx="20700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V="1">
            <a:off x="4016520" y="3755520"/>
            <a:ext cx="1479240" cy="352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204920"/>
            <a:ext cx="826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call multiplying fractions: 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cross cancel, then multiply 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numerators and denominato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517760" y="1662120"/>
                <a:ext cx="12697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 flipV="1">
            <a:off x="1728720" y="1841400"/>
            <a:ext cx="230400" cy="309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347840" y="1677960"/>
                <a:ext cx="3348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 flipV="1">
            <a:off x="2444760" y="2395440"/>
            <a:ext cx="230040" cy="309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709720" y="2362320"/>
                <a:ext cx="371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 flipV="1">
            <a:off x="1579680" y="2419200"/>
            <a:ext cx="469800" cy="3225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174680" y="2330280"/>
                <a:ext cx="335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 flipV="1">
            <a:off x="2432160" y="1755720"/>
            <a:ext cx="230040" cy="309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701800" y="1647720"/>
                <a:ext cx="262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016080" y="1725480"/>
                <a:ext cx="1008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flipV="1">
            <a:off x="939960" y="5078520"/>
            <a:ext cx="2539800" cy="3204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93720" y="5386320"/>
                <a:ext cx="29545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884160" y="5545080"/>
                <a:ext cx="478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265400" y="5398920"/>
                <a:ext cx="8604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 flipV="1">
            <a:off x="1862280" y="4183200"/>
            <a:ext cx="404640" cy="4111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98600" y="5537160"/>
                <a:ext cx="478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657520" y="5421240"/>
                <a:ext cx="9079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 flipV="1">
            <a:off x="2208240" y="4295520"/>
            <a:ext cx="303120" cy="3380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494240" y="4970520"/>
            <a:ext cx="520560" cy="4255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749840" y="5200560"/>
                <a:ext cx="479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 flipV="1">
            <a:off x="785880" y="5529240"/>
            <a:ext cx="1420920" cy="4255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33960" y="2071800"/>
            <a:ext cx="37242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imes New Roman"/>
              </a:rPr>
              <a:t>CANCEL FACTORS </a:t>
            </a:r>
            <a:r>
              <a:rPr b="1" lang="en-US" sz="2900" spc="-1" strike="noStrike" u="sng">
                <a:solidFill>
                  <a:srgbClr val="0000ff"/>
                </a:solidFill>
                <a:uFillTx/>
                <a:latin typeface="Times New Roman"/>
              </a:rPr>
              <a:t>NOT TERMS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74760" y="4068720"/>
                <a:ext cx="488952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04920" y="1204920"/>
            <a:ext cx="8534160" cy="19033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ltiplying Rationa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844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092240" y="4375080"/>
            <a:ext cx="1465200" cy="2923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655640" y="5083200"/>
            <a:ext cx="341280" cy="4492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84200" y="3606840"/>
                <a:ext cx="29541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55560" y="3638520"/>
                <a:ext cx="1241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052720" y="3625920"/>
                <a:ext cx="12430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827680" y="3971880"/>
                <a:ext cx="212580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915240" y="4853160"/>
                <a:ext cx="517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 flipV="1">
            <a:off x="2746440" y="5659200"/>
            <a:ext cx="1390680" cy="4078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204920"/>
            <a:ext cx="826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call multiplying fractions: 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cross cancel, then multiply 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numerators and denominato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517760" y="1662120"/>
                <a:ext cx="12697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 flipV="1">
            <a:off x="1728720" y="1841400"/>
            <a:ext cx="230400" cy="309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347840" y="1677960"/>
                <a:ext cx="3348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 flipV="1">
            <a:off x="2444760" y="2395440"/>
            <a:ext cx="230040" cy="309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709720" y="2362320"/>
                <a:ext cx="371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 flipV="1">
            <a:off x="1579680" y="2419200"/>
            <a:ext cx="469800" cy="3225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174680" y="2330280"/>
                <a:ext cx="335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 flipV="1">
            <a:off x="2432160" y="1755720"/>
            <a:ext cx="230040" cy="309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701800" y="1647720"/>
                <a:ext cx="262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016080" y="1725480"/>
                <a:ext cx="1008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 flipV="1">
            <a:off x="2795760" y="5149440"/>
            <a:ext cx="2539800" cy="3207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666880" y="5516640"/>
                <a:ext cx="29545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857680" y="5675400"/>
                <a:ext cx="477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38560" y="5533920"/>
                <a:ext cx="860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flipV="1">
            <a:off x="3457440" y="3750840"/>
            <a:ext cx="255600" cy="4222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272120" y="5667480"/>
                <a:ext cx="477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630680" y="5551560"/>
                <a:ext cx="908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74680" y="5280120"/>
                <a:ext cx="4795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 flipV="1">
            <a:off x="595440" y="3724200"/>
            <a:ext cx="1420560" cy="4255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443400" y="3616200"/>
                <a:ext cx="180792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30760" y="3778200"/>
                <a:ext cx="477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272120" y="3630600"/>
                <a:ext cx="9079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 flipV="1">
            <a:off x="3348000" y="4383000"/>
            <a:ext cx="1465200" cy="2923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778200" y="3779640"/>
            <a:ext cx="1420920" cy="4251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65560" y="5681160"/>
            <a:ext cx="1479600" cy="352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04800" y="4338720"/>
                <a:ext cx="47466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04920" y="1204920"/>
            <a:ext cx="8534160" cy="222408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viding Rationa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3894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35720" y="4202280"/>
                <a:ext cx="298764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948360" y="5130720"/>
                <a:ext cx="827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380880" y="1204920"/>
            <a:ext cx="826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call dividing fractions: 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multiply by the reciprocal,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cross cancel, then multiply numerators and denominato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602160" y="2097000"/>
                <a:ext cx="17920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 flipV="1">
            <a:off x="4071960" y="2263320"/>
            <a:ext cx="355680" cy="2602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741840" y="2075040"/>
                <a:ext cx="33480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 flipV="1">
            <a:off x="4976640" y="2830320"/>
            <a:ext cx="230400" cy="3092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159520" y="2797200"/>
                <a:ext cx="258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 flipV="1">
            <a:off x="4011480" y="2841480"/>
            <a:ext cx="470160" cy="3225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718080" y="2841480"/>
                <a:ext cx="3348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 flipV="1">
            <a:off x="4863960" y="2263320"/>
            <a:ext cx="417600" cy="2732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332320" y="2050920"/>
                <a:ext cx="3384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484960" y="2133720"/>
                <a:ext cx="7840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 flipV="1">
            <a:off x="1366920" y="4707000"/>
            <a:ext cx="1776240" cy="2318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080" y="3857760"/>
                <a:ext cx="29541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8640" y="3919680"/>
                <a:ext cx="12430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25560" y="3911760"/>
                <a:ext cx="1289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 flipV="1">
            <a:off x="1757520" y="4013280"/>
            <a:ext cx="1420560" cy="4255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014560" y="2109960"/>
                <a:ext cx="1530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086280" y="4390920"/>
                <a:ext cx="24444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 flipV="1">
            <a:off x="4000680" y="5457600"/>
            <a:ext cx="1477800" cy="3063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1600" y="4338720"/>
                <a:ext cx="51768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304920" y="1204920"/>
            <a:ext cx="8534160" cy="222408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viding Rationa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3894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970600" y="4202280"/>
                <a:ext cx="298764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434360" y="5079960"/>
                <a:ext cx="723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380880" y="1204920"/>
            <a:ext cx="826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call dividing fractions: 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multiply by the reciprocal,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cross cancel, then multiply numerators and denominato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602160" y="2097000"/>
                <a:ext cx="17920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 flipV="1">
            <a:off x="4071960" y="2263320"/>
            <a:ext cx="355680" cy="2602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741840" y="2075040"/>
                <a:ext cx="33480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 flipV="1">
            <a:off x="4976640" y="2830320"/>
            <a:ext cx="230400" cy="3092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159520" y="2797200"/>
                <a:ext cx="258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 flipV="1">
            <a:off x="4011480" y="2841480"/>
            <a:ext cx="470160" cy="3225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718080" y="2841480"/>
                <a:ext cx="3348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 flipV="1">
            <a:off x="4863960" y="2263320"/>
            <a:ext cx="417600" cy="2732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32320" y="2050920"/>
                <a:ext cx="3384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84960" y="2133720"/>
                <a:ext cx="7840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1019160" y="4692240"/>
            <a:ext cx="2355840" cy="2890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87520" y="3857760"/>
                <a:ext cx="29541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41240" y="4027320"/>
                <a:ext cx="4780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79800" y="3994200"/>
                <a:ext cx="477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2082960" y="4013280"/>
            <a:ext cx="1420560" cy="4255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014560" y="2109960"/>
                <a:ext cx="1530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538440" y="4429080"/>
                <a:ext cx="206064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V="1">
            <a:off x="4118040" y="5471640"/>
            <a:ext cx="1477800" cy="3063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116000" y="3894120"/>
                <a:ext cx="8604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79760" y="3882960"/>
                <a:ext cx="765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2-28T17:23:05Z</dcterms:modified>
  <cp:revision>323</cp:revision>
  <dc:subject/>
  <dc:title>No Slide Title</dc:title>
</cp:coreProperties>
</file>